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449-9D9C-4575-9EE3-575684A4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5FC-0006-4B29-AD14-70D3D779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213-A78C-45FC-AA76-B5AE949F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47F-3F11-40E3-B179-C282AA1D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9599-FDCF-4905-85F5-A2876E9E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6F16-229B-4A27-A4F0-6D59869C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5CAA-AAC8-4B1E-B004-30C4ADF2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1612-5B0F-4301-85DD-34ACBBA0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D228-3193-4411-A213-4574DD0F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A7E9-7795-427D-A2B0-3E19D0A4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B0D9-B229-4AD4-864A-8BE169E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908-7E0A-4A6C-949B-31081819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F7D1-5A70-404E-8DEE-B33BA0ED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7A1A-DA8E-4A93-A72C-D7965219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70F4-2A75-442A-A149-38E805D8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F671-BBBC-48BC-B1D8-48FABE7E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D38B-846F-452B-B155-020A56CE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3E1-A6AF-48E2-A48A-9778C554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76C-2BB3-4654-A621-8921770F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59A-D108-47A9-BED2-0C9248B1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A34-4019-453D-A357-179E713B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43B-B335-4DDF-8DB5-4CE42A3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707-E841-4746-A2B8-75A43DE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B55-5B19-498B-93DA-8327362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D07F-20BC-4962-B71D-4626442E77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7E54-5192-4E2A-BB74-AEFDDDBB7E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cclaimimages.com/usepolicy.html" TargetMode="External"/><Relationship Id="rId2" Type="http://schemas.openxmlformats.org/officeDocument/2006/relationships/hyperlink" Target="http://www.acclaimimages.com/usepolicy.html" TargetMode="External"/><Relationship Id="rId3" Type="http://schemas.openxmlformats.org/officeDocument/2006/relationships/hyperlink" Target="http://www.acclaimimages.com/usepolicy.htm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teacher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chool.discovery.com/clipart/clip/bus-stop3-color.html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school.discovery.com/clipart/clip/scream.html" TargetMode="External"/><Relationship Id="rId6" Type="http://schemas.openxmlformats.org/officeDocument/2006/relationships/image" Target="../media/image15.png"/><Relationship Id="rId7" Type="http://schemas.openxmlformats.org/officeDocument/2006/relationships/hyperlink" Target="http://school.discovery.com/clipart/clip/schlbell.html" TargetMode="External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8/FDR_in_193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oc.gov/exhibits/bobhope/images/vc93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2" descr="http://images.ewins.com/digital_asset_manager/image_resize.php?vi=322680&amp;mdx=800"/>
          <p:cNvPicPr/>
          <p:nvPr/>
        </p:nvPicPr>
        <p:blipFill>
          <a:blip r:embed="rId1"/>
          <a:srcRect l="22861" t="2965" r="4082" b="0"/>
          <a:stretch/>
        </p:blipFill>
        <p:spPr>
          <a:xfrm>
            <a:off x="1523880" y="9360"/>
            <a:ext cx="61722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.  Glass-Steagall Banking 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. Federal Deposit Insurance Corporation (FDI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$5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$10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$25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FDIC official teller sign"/>
          <p:cNvPicPr/>
          <p:nvPr/>
        </p:nvPicPr>
        <p:blipFill>
          <a:blip r:embed="rId1"/>
          <a:stretch/>
        </p:blipFill>
        <p:spPr>
          <a:xfrm>
            <a:off x="3124080" y="3352680"/>
            <a:ext cx="57722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.  Reforming Banking and Fin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ance/Stock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deral Securities Act: co. makes stock info publ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ies and Exchange commission (SEC):  regulate stock market, “insider trading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Verdana"/>
                <a:hlinkClick r:id="rId1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Photo of Navigating Your Way In The Stock Market,, Business, Concep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3911760"/>
            <a:ext cx="396216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.  Helping America’s Farmer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Agricultural Adjustment 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wer production = _____ pri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ov’t will pay subsidy (financial support/price support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ercial farmers benefited m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5" descr="j0233312"/>
          <p:cNvPicPr/>
          <p:nvPr/>
        </p:nvPicPr>
        <p:blipFill>
          <a:blip r:embed="rId1"/>
          <a:stretch/>
        </p:blipFill>
        <p:spPr>
          <a:xfrm>
            <a:off x="4952880" y="2286000"/>
            <a:ext cx="2381400" cy="242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0149887"/>
          <p:cNvPicPr/>
          <p:nvPr/>
        </p:nvPicPr>
        <p:blipFill>
          <a:blip r:embed="rId2"/>
          <a:stretch/>
        </p:blipFill>
        <p:spPr>
          <a:xfrm>
            <a:off x="6172200" y="4640400"/>
            <a:ext cx="276876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.  Creating Job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 Works Admin (PW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WA for all types of construc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effective; awarded contracts, not direct h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vil Works Admin (CWA) more effective due to direct hi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93960" y="2789280"/>
            <a:ext cx="5357880" cy="1265040"/>
            <a:chOff x="1893960" y="2789280"/>
            <a:chExt cx="5357880" cy="1265040"/>
          </a:xfrm>
        </p:grpSpPr>
        <p:sp>
          <p:nvSpPr>
            <p:cNvPr id="146" name="Rectangle 5"/>
            <p:cNvSpPr/>
            <p:nvPr/>
          </p:nvSpPr>
          <p:spPr>
            <a:xfrm>
              <a:off x="1893960" y="27892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7" name="Group 6"/>
            <p:cNvGrpSpPr/>
            <p:nvPr/>
          </p:nvGrpSpPr>
          <p:grpSpPr>
            <a:xfrm>
              <a:off x="1893960" y="2789280"/>
              <a:ext cx="3929040" cy="1265040"/>
              <a:chOff x="1893960" y="2789280"/>
              <a:chExt cx="3929040" cy="126504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1893960" y="27892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49" name="Group 8"/>
              <p:cNvGrpSpPr/>
              <p:nvPr/>
            </p:nvGrpSpPr>
            <p:grpSpPr>
              <a:xfrm>
                <a:off x="1893960" y="2789280"/>
                <a:ext cx="3911760" cy="1265040"/>
                <a:chOff x="1893960" y="2789280"/>
                <a:chExt cx="3911760" cy="1265040"/>
              </a:xfrm>
            </p:grpSpPr>
            <p:sp>
              <p:nvSpPr>
                <p:cNvPr id="150" name="Rectangle 9"/>
                <p:cNvSpPr/>
                <p:nvPr/>
              </p:nvSpPr>
              <p:spPr>
                <a:xfrm>
                  <a:off x="1893960" y="2789280"/>
                  <a:ext cx="391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0"/>
                <p:cNvSpPr/>
                <p:nvPr/>
              </p:nvSpPr>
              <p:spPr>
                <a:xfrm>
                  <a:off x="1893960" y="2789280"/>
                  <a:ext cx="3911760" cy="12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 </a:t>
                  </a:r>
                  <a:r>
                    <a:rPr b="0" lang="en-US" sz="7700" spc="-1" strike="noStrike">
                      <a:solidFill>
                        <a:srgbClr val="003366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            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52" name="Picture 11" descr="female teac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5029200"/>
            <a:ext cx="1028880" cy="123516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2"/>
          <p:cNvGrpSpPr/>
          <p:nvPr/>
        </p:nvGrpSpPr>
        <p:grpSpPr>
          <a:xfrm>
            <a:off x="1893960" y="2789280"/>
            <a:ext cx="5357880" cy="1265040"/>
            <a:chOff x="1893960" y="2789280"/>
            <a:chExt cx="5357880" cy="1265040"/>
          </a:xfrm>
        </p:grpSpPr>
        <p:sp>
          <p:nvSpPr>
            <p:cNvPr id="154" name="Rectangle 13"/>
            <p:cNvSpPr/>
            <p:nvPr/>
          </p:nvSpPr>
          <p:spPr>
            <a:xfrm>
              <a:off x="1893960" y="27892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55" name="Group 14"/>
            <p:cNvGrpSpPr/>
            <p:nvPr/>
          </p:nvGrpSpPr>
          <p:grpSpPr>
            <a:xfrm>
              <a:off x="1893960" y="2789280"/>
              <a:ext cx="3929040" cy="1265040"/>
              <a:chOff x="1893960" y="2789280"/>
              <a:chExt cx="3929040" cy="1265040"/>
            </a:xfrm>
          </p:grpSpPr>
          <p:sp>
            <p:nvSpPr>
              <p:cNvPr id="156" name="Rectangle 15"/>
              <p:cNvSpPr/>
              <p:nvPr/>
            </p:nvSpPr>
            <p:spPr>
              <a:xfrm>
                <a:off x="1893960" y="27892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57" name="Group 16"/>
              <p:cNvGrpSpPr/>
              <p:nvPr/>
            </p:nvGrpSpPr>
            <p:grpSpPr>
              <a:xfrm>
                <a:off x="1893960" y="2789280"/>
                <a:ext cx="3911760" cy="1265040"/>
                <a:chOff x="1893960" y="2789280"/>
                <a:chExt cx="3911760" cy="1265040"/>
              </a:xfrm>
            </p:grpSpPr>
            <p:sp>
              <p:nvSpPr>
                <p:cNvPr id="158" name="Rectangle 17"/>
                <p:cNvSpPr/>
                <p:nvPr/>
              </p:nvSpPr>
              <p:spPr>
                <a:xfrm>
                  <a:off x="1893960" y="2789280"/>
                  <a:ext cx="391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18"/>
                <p:cNvSpPr/>
                <p:nvPr/>
              </p:nvSpPr>
              <p:spPr>
                <a:xfrm>
                  <a:off x="1893960" y="2789280"/>
                  <a:ext cx="3911760" cy="12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 </a:t>
                  </a:r>
                  <a:r>
                    <a:rPr b="0" lang="en-US" sz="7700" spc="-1" strike="noStrike">
                      <a:solidFill>
                        <a:srgbClr val="003366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            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60" name="Picture 19" descr="bus sto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4648320"/>
            <a:ext cx="102888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0"/>
          <p:cNvGrpSpPr/>
          <p:nvPr/>
        </p:nvGrpSpPr>
        <p:grpSpPr>
          <a:xfrm>
            <a:off x="1893960" y="2789280"/>
            <a:ext cx="5357880" cy="1265040"/>
            <a:chOff x="1893960" y="2789280"/>
            <a:chExt cx="5357880" cy="1265040"/>
          </a:xfrm>
        </p:grpSpPr>
        <p:sp>
          <p:nvSpPr>
            <p:cNvPr id="162" name="Rectangle 21"/>
            <p:cNvSpPr/>
            <p:nvPr/>
          </p:nvSpPr>
          <p:spPr>
            <a:xfrm>
              <a:off x="1893960" y="27892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3" name="Group 22"/>
            <p:cNvGrpSpPr/>
            <p:nvPr/>
          </p:nvGrpSpPr>
          <p:grpSpPr>
            <a:xfrm>
              <a:off x="1893960" y="2789280"/>
              <a:ext cx="3929040" cy="1265040"/>
              <a:chOff x="1893960" y="2789280"/>
              <a:chExt cx="3929040" cy="1265040"/>
            </a:xfrm>
          </p:grpSpPr>
          <p:sp>
            <p:nvSpPr>
              <p:cNvPr id="164" name="Rectangle 23"/>
              <p:cNvSpPr/>
              <p:nvPr/>
            </p:nvSpPr>
            <p:spPr>
              <a:xfrm>
                <a:off x="1893960" y="27892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65" name="Group 24"/>
              <p:cNvGrpSpPr/>
              <p:nvPr/>
            </p:nvGrpSpPr>
            <p:grpSpPr>
              <a:xfrm>
                <a:off x="1893960" y="2789280"/>
                <a:ext cx="3911760" cy="1265040"/>
                <a:chOff x="1893960" y="2789280"/>
                <a:chExt cx="3911760" cy="1265040"/>
              </a:xfrm>
            </p:grpSpPr>
            <p:sp>
              <p:nvSpPr>
                <p:cNvPr id="166" name="Rectangle 25"/>
                <p:cNvSpPr/>
                <p:nvPr/>
              </p:nvSpPr>
              <p:spPr>
                <a:xfrm>
                  <a:off x="1893960" y="2789280"/>
                  <a:ext cx="391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26"/>
                <p:cNvSpPr/>
                <p:nvPr/>
              </p:nvSpPr>
              <p:spPr>
                <a:xfrm>
                  <a:off x="1893960" y="2789280"/>
                  <a:ext cx="3911760" cy="12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 </a:t>
                  </a:r>
                  <a:r>
                    <a:rPr b="0" lang="en-US" sz="7700" spc="-1" strike="noStrike">
                      <a:solidFill>
                        <a:srgbClr val="003366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            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68" name="Picture 27" descr="kid writing on boar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4800600"/>
            <a:ext cx="14590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28"/>
          <p:cNvGrpSpPr/>
          <p:nvPr/>
        </p:nvGrpSpPr>
        <p:grpSpPr>
          <a:xfrm>
            <a:off x="1893960" y="2789280"/>
            <a:ext cx="5357880" cy="1265040"/>
            <a:chOff x="1893960" y="2789280"/>
            <a:chExt cx="5357880" cy="1265040"/>
          </a:xfrm>
        </p:grpSpPr>
        <p:sp>
          <p:nvSpPr>
            <p:cNvPr id="170" name="Rectangle 29"/>
            <p:cNvSpPr/>
            <p:nvPr/>
          </p:nvSpPr>
          <p:spPr>
            <a:xfrm>
              <a:off x="1893960" y="27892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1" name="Group 30"/>
            <p:cNvGrpSpPr/>
            <p:nvPr/>
          </p:nvGrpSpPr>
          <p:grpSpPr>
            <a:xfrm>
              <a:off x="1893960" y="2789280"/>
              <a:ext cx="3929040" cy="1265040"/>
              <a:chOff x="1893960" y="2789280"/>
              <a:chExt cx="3929040" cy="1265040"/>
            </a:xfrm>
          </p:grpSpPr>
          <p:sp>
            <p:nvSpPr>
              <p:cNvPr id="172" name="Rectangle 31"/>
              <p:cNvSpPr/>
              <p:nvPr/>
            </p:nvSpPr>
            <p:spPr>
              <a:xfrm>
                <a:off x="1893960" y="278928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73" name="Group 32"/>
              <p:cNvGrpSpPr/>
              <p:nvPr/>
            </p:nvGrpSpPr>
            <p:grpSpPr>
              <a:xfrm>
                <a:off x="1893960" y="2789280"/>
                <a:ext cx="3911760" cy="1265040"/>
                <a:chOff x="1893960" y="2789280"/>
                <a:chExt cx="3911760" cy="1265040"/>
              </a:xfrm>
            </p:grpSpPr>
            <p:sp>
              <p:nvSpPr>
                <p:cNvPr id="174" name="Rectangle 33"/>
                <p:cNvSpPr/>
                <p:nvPr/>
              </p:nvSpPr>
              <p:spPr>
                <a:xfrm>
                  <a:off x="1893960" y="2789280"/>
                  <a:ext cx="391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34"/>
                <p:cNvSpPr/>
                <p:nvPr/>
              </p:nvSpPr>
              <p:spPr>
                <a:xfrm>
                  <a:off x="1893960" y="2789280"/>
                  <a:ext cx="3911760" cy="12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  </a:t>
                  </a:r>
                  <a:r>
                    <a:rPr b="0" lang="en-US" sz="7700" spc="-1" strike="noStrike">
                      <a:solidFill>
                        <a:srgbClr val="003366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3366"/>
                      </a:solidFill>
                      <a:latin typeface="Times New Roman"/>
                    </a:rPr>
                    <a:t>            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76" name="Picture 35" descr="school be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4724280"/>
            <a:ext cx="10288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.  1933: 21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Amend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xes applied to raise revenue for federal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Stock Photo of a Woman Holding Two Mugs of Beer. Early 1940s"/>
          <p:cNvPicPr/>
          <p:nvPr/>
        </p:nvPicPr>
        <p:blipFill>
          <a:blip r:embed="rId1"/>
          <a:stretch/>
        </p:blipFill>
        <p:spPr>
          <a:xfrm>
            <a:off x="4800600" y="2438280"/>
            <a:ext cx="362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.  Relief Prog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 Civilian Conservation Corp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ads, planting trees, flood control, soil ero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$5/$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 food &amp; uni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7" descr="ks110973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R082"/>
          <p:cNvPicPr/>
          <p:nvPr/>
        </p:nvPicPr>
        <p:blipFill>
          <a:blip r:embed="rId2"/>
          <a:stretch/>
        </p:blipFill>
        <p:spPr>
          <a:xfrm>
            <a:off x="4876920" y="33526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Federal Emergency Relief Administr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 aid for food &amp; clot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4" descr="57520612"/>
          <p:cNvPicPr/>
          <p:nvPr/>
        </p:nvPicPr>
        <p:blipFill>
          <a:blip r:embed="rId1"/>
          <a:stretch/>
        </p:blipFill>
        <p:spPr>
          <a:xfrm>
            <a:off x="1066680" y="3352680"/>
            <a:ext cx="3429000" cy="2536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bxp165724"/>
          <p:cNvPicPr/>
          <p:nvPr/>
        </p:nvPicPr>
        <p:blipFill>
          <a:blip r:embed="rId2"/>
          <a:stretch/>
        </p:blipFill>
        <p:spPr>
          <a:xfrm>
            <a:off x="4648320" y="335268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National Recovery Administr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prices on products to ensure fair competition, banned child labor, and set work ho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ed for un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4" descr="empty"/>
          <p:cNvPicPr/>
          <p:nvPr/>
        </p:nvPicPr>
        <p:blipFill>
          <a:blip r:embed="rId1"/>
          <a:stretch/>
        </p:blipFill>
        <p:spPr>
          <a:xfrm>
            <a:off x="5257800" y="3276720"/>
            <a:ext cx="3886200" cy="2616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Union Workers vs Wal Mart #3"/>
          <p:cNvPicPr/>
          <p:nvPr/>
        </p:nvPicPr>
        <p:blipFill>
          <a:blip r:embed="rId2"/>
          <a:stretch/>
        </p:blipFill>
        <p:spPr>
          <a:xfrm>
            <a:off x="228600" y="41148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AMWU National Secretary, Doug Cameron, speaks to Kemalex workers (May 24)"/>
          <p:cNvPicPr/>
          <p:nvPr/>
        </p:nvPicPr>
        <p:blipFill>
          <a:blip r:embed="rId3"/>
          <a:stretch/>
        </p:blipFill>
        <p:spPr>
          <a:xfrm>
            <a:off x="1981080" y="396252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.  Helping Industry: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Industrial Recovery A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ablished fair practice codes and regul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dered unconstitutional - Wh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4" descr="Stock Photo of Old New England Textile Mill"/>
          <p:cNvPicPr/>
          <p:nvPr/>
        </p:nvPicPr>
        <p:blipFill>
          <a:blip r:embed="rId1"/>
          <a:stretch/>
        </p:blipFill>
        <p:spPr>
          <a:xfrm>
            <a:off x="5486400" y="3741840"/>
            <a:ext cx="3657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12.1:  The First New De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932 Election 32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President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vs. Hoo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5" descr="Image:FDR in 19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362320"/>
            <a:ext cx="381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.  Franklin D. Roosevelt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“can-do” presid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dslide w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“things” democra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s. and cong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ed while waiting for inaugu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end (1933). Changed inauguration from March to J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fdr130"/>
          <p:cNvPicPr/>
          <p:nvPr/>
        </p:nvPicPr>
        <p:blipFill>
          <a:blip r:embed="rId1"/>
          <a:stretch/>
        </p:blipFill>
        <p:spPr>
          <a:xfrm>
            <a:off x="4572000" y="259884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-609480" algn="ctr">
              <a:lnSpc>
                <a:spcPct val="90000"/>
              </a:lnSpc>
              <a:buClr>
                <a:srgbClr val="006666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was the New Deal?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3 R’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Policies developed by FDR that would gi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. 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lief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o the needy; direct  aid to the peop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.  economic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cove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 new job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.  financial </a:t>
            </a: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form;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garding banks and stock mark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newdeal2.gif"/>
          <p:cNvPicPr/>
          <p:nvPr/>
        </p:nvPicPr>
        <p:blipFill>
          <a:blip r:embed="rId1"/>
          <a:stretch/>
        </p:blipFill>
        <p:spPr>
          <a:xfrm>
            <a:off x="4876920" y="2286000"/>
            <a:ext cx="37335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.  First Hundred D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2361960"/>
            <a:ext cx="37702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ident tries to pass as many bills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edent set by FD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ed 15 bill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http://conservativedailynews.com/wp-content/uploads/2010/08/fdr1.jpg"/>
          <p:cNvPicPr/>
          <p:nvPr/>
        </p:nvPicPr>
        <p:blipFill>
          <a:blip r:embed="rId1"/>
          <a:stretch/>
        </p:blipFill>
        <p:spPr>
          <a:xfrm>
            <a:off x="4767120" y="2438280"/>
            <a:ext cx="42674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.  Concern of the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 Gold standard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 oz. of gold = set dollar amou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Bank Holid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osed banks before bank runs bankrupt th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pected by gov’t to ensure they were secured = Emergency Banking Relief 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tores confidence by the peop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63360" y="-238140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216000" y="-222876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368280" y="-207648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520560" y="-192420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673200" y="-1771560"/>
            <a:ext cx="5715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21" descr="Great-depression-bank-run"/>
          <p:cNvPicPr/>
          <p:nvPr/>
        </p:nvPicPr>
        <p:blipFill>
          <a:blip r:embed="rId1"/>
          <a:stretch/>
        </p:blipFill>
        <p:spPr>
          <a:xfrm>
            <a:off x="4807080" y="2362320"/>
            <a:ext cx="4225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.  Fireside Cha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lking directly to Americ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ing them of plans/poli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 confidence in ba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6" descr="Coll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438280"/>
            <a:ext cx="44956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81280" y="571680"/>
            <a:ext cx="777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4" descr="hundred3"/>
          <p:cNvPicPr/>
          <p:nvPr/>
        </p:nvPicPr>
        <p:blipFill>
          <a:blip r:embed="rId1"/>
          <a:stretch/>
        </p:blipFill>
        <p:spPr>
          <a:xfrm>
            <a:off x="1995480" y="571680"/>
            <a:ext cx="5154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1-12-12T01:44:3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